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7.wmf" ContentType="image/x-wmf"/>
  <Override PartName="/ppt/media/image15.png" ContentType="image/png"/>
  <Override PartName="/ppt/media/image5.jpeg" ContentType="image/jpeg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8.gif" ContentType="image/gif"/>
  <Override PartName="/ppt/media/image13.gif" ContentType="image/gi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089-6818-4066-8F4B-84F997E2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E00-B0D5-4960-A66E-0C940ED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12-F3F0-4C82-A90E-9F72E540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64F-4C88-42E1-8C05-400CC334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2537A-0974-407D-9721-1E1B6229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D359-5D3E-4E7C-8B74-71AE688D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0704-E89B-4F87-870D-2E2562B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5C7D5-C607-473E-A975-7F01DD2D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D4026-7889-4B19-A365-C195B78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14BA-71C6-4F79-8FAA-106A6F26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E764-93ED-4E7C-BDBD-2CB9DCD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129-82A6-44A5-9C48-603A6971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3440-ECE7-4FB6-95EB-A0B8744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56D5B-2360-4E01-8B04-84B1752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1A14-A6CE-4855-9EFA-567F2F7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31D6A-3C8B-482C-A312-E84B86B7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2888-FE31-450B-A1F3-0374E0DB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D25-7113-44B7-8EE0-06565FD9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681-0385-486B-8B44-C8FE10B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FFA-24C5-4A9A-9A73-E34CAEF4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488-9089-44F5-827A-4E968A24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30C-327E-4A0E-BE0B-BCC7448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358-6CE6-4CA1-B3C4-41DD01B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B47-5328-4383-86CD-A97D14F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2C99-F485-43AB-AEA1-04F4E36EB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193-232F-4863-8911-D7B9E63445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a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look at angr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ase word: Gl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ynonyms: To st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glar.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870120" cy="117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292400" cy="12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rr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use with per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Base Word: 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o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bor.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: st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59320" y="4040280"/>
            <a:ext cx="2621160" cy="19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97600" y="1905120"/>
            <a:ext cx="314460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g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be exited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Happ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eag.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to be sad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84760" y="1905120"/>
            <a:ext cx="1970280" cy="197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05640" y="4181400"/>
            <a:ext cx="193032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DEFINITION: TO SIGN OUT AND 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SYNONYM: TO 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ANTONYM: TO NOT CHECK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00840" y="241920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62520" y="4106880"/>
            <a:ext cx="180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tter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Ign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chat.ter.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c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t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00840" y="1992240"/>
            <a:ext cx="1333440" cy="180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94400" y="4067280"/>
            <a:ext cx="2146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b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To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ew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Li.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 L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38760" y="2284560"/>
            <a:ext cx="1855800" cy="122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106704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di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good b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g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: ad.i.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676840" y="40384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nny</cp:lastModifiedBy>
  <dcterms:modified xsi:type="dcterms:W3CDTF">2008-12-17T20:17:17Z</dcterms:modified>
  <cp:revision>25</cp:revision>
  <dc:subject/>
  <dc:title>PowerPoint Presentation</dc:title>
</cp:coreProperties>
</file>